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999-38A1-451C-B570-27AED6EB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876-8123-49AB-B3BF-9BB9D831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7E4-550D-4B4D-9653-BCB853E1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3AB-F694-4F2C-B83C-8E4D03D3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B34-1ABF-4F18-8313-FB0779D6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A31-4241-455D-AF48-D2695088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802-41E3-4F2D-AEC1-3E955438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EF0-6598-4A97-AC5E-8D416B96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57D-B18F-41FC-8D7E-9591F6B8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4BF-A755-4B47-9860-56788BC3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B43-BB8C-43E6-A54A-C0C9419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AE6-26CD-4F7B-8372-F53720D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7C0C-3DFE-43F6-8E3D-6867FBB95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1 Boh tvorcom sveta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vesmír zvest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slávy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 ňom svoj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ým kraľ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o tom premýšľa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ôkol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dn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chválu vzdať mu má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vďačný tvorstva hl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, neba kruh len Boží Du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odial krásou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ho slávou b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ustý kraj na vábny r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krásy rozkvit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lávu marí pád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príde čas, keď Vládca z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 nových krás mu d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treba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on len sám je slávy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ba Majestá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0:50Z</dcterms:modified>
  <cp:revision>29</cp:revision>
  <dc:subject/>
  <dc:title>Je veľký náš Pán, on slávy je Kráľ Nech do všetkých strán  spev vrúcnych znie chvál.</dc:title>
</cp:coreProperties>
</file>